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81102"/>
        <c:axId val="2325766"/>
      </c:barChart>
      <c:catAx>
        <c:axId val="61481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5766"/>
        <c:crosses val="autoZero"/>
        <c:auto val="1"/>
        <c:lblAlgn val="ctr"/>
        <c:lblOffset val="100"/>
        <c:noMultiLvlLbl val="0"/>
      </c:catAx>
      <c:valAx>
        <c:axId val="2325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81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F5F-DA1A-4C21-9F76-01BA958E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4B6-CDC0-4B38-BFE2-9D4FB303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A03-E4EE-4DB4-B7DC-6FF5F1A4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3EB-1712-49FC-B7AF-A0CB4AF4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A88-56CB-446A-85E3-379B2BCE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71F-8435-431A-B09B-469D209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3F4-BD76-40E8-8C9D-9918C694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FD0-49D7-4352-8985-A557040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0BD-D066-41E1-B7F1-1BDE323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1F0-E8E9-4EF1-BB95-3C96FEB7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A03-A89A-41BF-84EB-5B1C1590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69F-3BE0-4591-B75A-01A290F0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12AC5-41CA-4EAC-9C09-F4FB92FA8B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