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93837"/>
        <c:axId val="82372644"/>
      </c:barChart>
      <c:catAx>
        <c:axId val="31593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72644"/>
        <c:crosses val="autoZero"/>
        <c:auto val="1"/>
        <c:lblAlgn val="ctr"/>
        <c:lblOffset val="100"/>
        <c:noMultiLvlLbl val="0"/>
      </c:catAx>
      <c:valAx>
        <c:axId val="82372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3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D66-2D2A-4173-A4F9-1C3E242D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BE6-B348-4B9F-9C65-96D6EDE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C18-299E-472B-9838-0ED3978E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25C-46E8-4489-8915-8A300B94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39B-FC0B-4B84-8A3D-54F4FFDE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BB6-AF42-4CEA-B36E-BBFCE88B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A4BF-D3A4-4968-8382-9D7FA071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80D-18BC-4B58-ACDC-DC29B14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C10-6DE4-47E4-949F-F78C3F2C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625-3230-4739-9090-FA0D1ADF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B1E-9714-442C-B835-EEB136C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58B-EBC7-41ED-A7CD-A7DEC84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B1F84-B4AB-48DC-A9EC-6C2766E39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