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671713"/>
        <c:axId val="56909323"/>
      </c:barChart>
      <c:catAx>
        <c:axId val="786717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09323"/>
        <c:crosses val="autoZero"/>
        <c:auto val="1"/>
        <c:lblAlgn val="ctr"/>
        <c:lblOffset val="100"/>
        <c:noMultiLvlLbl val="0"/>
      </c:catAx>
      <c:valAx>
        <c:axId val="56909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717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B71-E1C6-4798-BEAA-E804044F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1F1-6363-45DB-AF5A-AA2DFEF5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947E-B8DE-4871-A470-C6487650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290-0720-46D0-AB2B-087E5DA2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0DDF-924D-4059-83C6-4670E3DC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AAE-E0A2-406D-ADFE-AF07ACF9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BDBE-CC30-483A-A9A2-A2F52322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167A-CBAB-46DB-B9B5-9B9AD6A2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9F0D-8E5F-4D2C-9FB7-1D1B7104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9BF6-DE63-4F54-9BF9-2A06F2D9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3F20-CF77-4FA0-8D11-D817CB17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9DB-D068-4D2E-9D6D-8400152E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96FE7-B260-4D02-8095-3062EA9626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