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46280"/>
        <c:axId val="13020707"/>
      </c:barChart>
      <c:catAx>
        <c:axId val="69646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20707"/>
        <c:crosses val="autoZero"/>
        <c:auto val="1"/>
        <c:lblAlgn val="ctr"/>
        <c:lblOffset val="100"/>
        <c:noMultiLvlLbl val="0"/>
      </c:catAx>
      <c:valAx>
        <c:axId val="13020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46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6330-26CD-4803-AE64-AB7FD896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9379-DABF-4422-977C-EB2493DC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983-677A-4D06-BBDD-883B3584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C31A-1DF2-459C-B2BE-FDC14E68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69E-0CB1-4E0B-8993-68FFCD92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A60-1C21-438C-9212-2E78DF9F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57E-86F0-4933-9E9A-CA103F13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6BFE-05A7-45F5-98F4-342BE6A5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BBC0-31DD-498F-A739-EE1C54A3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AB6C-202A-4CEB-878F-6D0612F0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A6F-A38C-4450-B3E5-DC826E3E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FAC0-CD52-41EF-A743-14391CA5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C11D2-65B9-43CC-850B-E80A41E97B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