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23230"/>
        <c:axId val="28018536"/>
      </c:barChart>
      <c:catAx>
        <c:axId val="75423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8536"/>
        <c:crosses val="autoZero"/>
        <c:auto val="1"/>
        <c:lblAlgn val="ctr"/>
        <c:lblOffset val="100"/>
        <c:noMultiLvlLbl val="0"/>
      </c:catAx>
      <c:valAx>
        <c:axId val="2801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3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298-6DC6-4C7F-ABA8-81DA0AC6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519-E974-455F-923E-1E985E0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D52-5D3C-4E51-BC0C-EE480816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60A-2192-4031-A5C1-C10AB040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09D-8D8E-426E-A46D-1E7E80B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BCC-EA8F-4437-9C4E-74A59EF9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8CF-9963-4F74-B981-4BBF5260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9D2-1DE8-4E8A-8C23-9ED71CB7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8C6-A7BB-4D62-966F-F7628DD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4E8-A19D-49F3-AF52-983E647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E7C-2E9F-4B7D-B79F-4F9CE77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219-2B58-4D0B-9B22-41B76DBD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6AC15-F11E-488E-B8FB-DCE0876561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