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67837"/>
        <c:axId val="3967477"/>
      </c:barChart>
      <c:catAx>
        <c:axId val="384678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477"/>
        <c:crosses val="autoZero"/>
        <c:auto val="1"/>
        <c:lblAlgn val="ctr"/>
        <c:lblOffset val="100"/>
        <c:noMultiLvlLbl val="0"/>
      </c:catAx>
      <c:valAx>
        <c:axId val="3967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678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8F35-ECA3-4213-B25D-6AF4EC5B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E40-F44F-4B3A-AC09-43CABC55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91DC-78D3-4522-8D2A-326827E1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9BED-FD71-4C89-B4BB-C2CC5A27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2F4-0714-45C8-8718-2C15073E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E8D-5062-4F97-B524-8C560D17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E4E-3484-4CF0-99AE-951FBAE6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21E-DFA1-46D6-ABC3-C0A5437A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A9F8-E3DB-40B5-BCB4-C79C67F1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8B3-8CE4-49EF-8A52-4D93C2FC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E290-E0A1-426C-9EB0-A7F47FB4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460-C770-478C-AABC-78B6FC3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921A7-ACA9-479A-9464-3CDFF0ACB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