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5520"/>
        <c:axId val="97185232"/>
      </c:barChart>
      <c:catAx>
        <c:axId val="1955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85232"/>
        <c:crosses val="autoZero"/>
        <c:auto val="1"/>
        <c:lblAlgn val="ctr"/>
        <c:lblOffset val="100"/>
        <c:noMultiLvlLbl val="0"/>
      </c:catAx>
      <c:valAx>
        <c:axId val="971852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5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DFF6-295A-4AA3-BF58-A8DCE481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93C-14D8-4302-B479-A4A67C88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EA8-B981-4214-B3B3-DF3B0897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3A4-F3D6-479B-B086-1CA9EE14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1C44-F9C4-4055-9F87-9EA95CB3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9A1-AA25-4115-A26F-68659AC4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8F0-764C-417D-953C-35F7C5EC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6654-96A0-480D-90D1-63DDBF3C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E55-0635-4110-843D-C3E3D343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0BC-CC3E-4857-B643-A33585FB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021-0415-485C-AD4C-57742EA6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FB55-D72C-4AD8-8D73-028A6543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5928A-C210-4126-AD89-88A21DF53C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