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04754"/>
        <c:axId val="43993313"/>
      </c:barChart>
      <c:catAx>
        <c:axId val="24104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3313"/>
        <c:crosses val="autoZero"/>
        <c:auto val="1"/>
        <c:lblAlgn val="ctr"/>
        <c:lblOffset val="100"/>
        <c:noMultiLvlLbl val="0"/>
      </c:catAx>
      <c:valAx>
        <c:axId val="4399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04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B7E-A5A2-45D7-8750-8BA7249F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B9A-1170-427C-8E5B-E132B955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4D5-DCDD-4B3D-9E8B-3D0816DB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B09-4CE9-4CA8-8BE3-BA898338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2F7-9CC5-4B99-A58B-D4130A7A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8C0-8A79-4C0D-8CBA-769BE22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320-8240-40C7-B75F-7FF977A5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A0F-9B19-426B-AB80-6846B2ED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23A-5A8F-4CC6-941A-8B339F3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E6E-E484-4189-A44C-FA27812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D45-25F3-4794-B912-9FC71CA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03C-ECC3-4612-8ABF-5CC9BC0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02342-1FC5-4CB4-9607-58B4C53B5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