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562761"/>
        <c:axId val="25667116"/>
      </c:barChart>
      <c:catAx>
        <c:axId val="465627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67116"/>
        <c:crosses val="autoZero"/>
        <c:auto val="1"/>
        <c:lblAlgn val="ctr"/>
        <c:lblOffset val="100"/>
        <c:noMultiLvlLbl val="0"/>
      </c:catAx>
      <c:valAx>
        <c:axId val="256671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627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9D56-8A28-49DA-8314-D6CDB87D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B9A4-AC9F-4B8F-B9EA-1AF93736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1944-BCFF-410B-AA34-D79A92130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E668-1FA2-4602-9360-57B9A941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CE05-152A-4700-9ABC-4F4987FE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944C-1949-40BB-B7E5-56D4CACD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DE19-3612-4EB0-A70C-BE3A269D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68AC-160A-45A7-B5E8-0394AE50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5B1A-55C0-4BC1-AD6C-1A377A57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A2DA-5B53-4F83-B0E0-D5B7D671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EE51-4588-41ED-8E90-37F95F96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4D7D-8F8E-4D51-B4B9-7F826BD1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72A0C-B04B-4533-9AC1-78BDCE6077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