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74673"/>
        <c:axId val="64436625"/>
      </c:barChart>
      <c:catAx>
        <c:axId val="90074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6625"/>
        <c:crosses val="autoZero"/>
        <c:auto val="1"/>
        <c:lblAlgn val="ctr"/>
        <c:lblOffset val="100"/>
        <c:noMultiLvlLbl val="0"/>
      </c:catAx>
      <c:valAx>
        <c:axId val="64436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74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B5B-77B8-4E07-8CBA-17B52AC3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EE4-EE80-4400-8039-5FFE5A8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58B-1843-45D6-B156-D53C5995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E7A-AFFC-4FE6-AA6F-77E4B0FF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FB8-19DB-4DF6-A020-29984E0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685-A22D-4FA4-96C0-F50FFD3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57E-1CEE-469A-B80E-A3185565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1D6-1DE4-4EF1-B98D-FD90A628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FC4-3E10-43B3-9658-4AB1EC9D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3B5-E288-4AB2-BD7C-682A847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15D-0EFF-4C8A-9513-A89FB4E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B4A-0884-43B1-8C62-A0C2010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7E94A-EEA8-4AFF-9498-C02B992EA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