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56042"/>
        <c:axId val="86279369"/>
      </c:barChart>
      <c:catAx>
        <c:axId val="66456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79369"/>
        <c:crosses val="autoZero"/>
        <c:auto val="1"/>
        <c:lblAlgn val="ctr"/>
        <c:lblOffset val="100"/>
        <c:noMultiLvlLbl val="0"/>
      </c:catAx>
      <c:valAx>
        <c:axId val="86279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56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C88D-E1DC-4751-A218-9D613AD9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123-0BCE-4158-997A-25CF7200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AE8-4F05-4574-BD18-2B7BB1E5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3F6-7ED9-4A7A-A26B-3D833F59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B66-B34D-4AF8-9206-F1B29551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C09-6924-4E8E-9D56-3E8F6947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F86D-CC61-4196-B774-4919D6A9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2D7-6052-4095-9B23-1F800B17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446-2518-4EAA-B00C-C9987E33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106-D0C6-455F-8191-38DE1E23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F5A-C678-4E82-9509-A04CD54A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038-2451-480E-BA22-A7C35193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1444B-F3C3-4EAA-A961-D19929B1A8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