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201476"/>
        <c:axId val="30461739"/>
      </c:barChart>
      <c:catAx>
        <c:axId val="842014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461739"/>
        <c:crosses val="autoZero"/>
        <c:auto val="1"/>
        <c:lblAlgn val="ctr"/>
        <c:lblOffset val="100"/>
        <c:noMultiLvlLbl val="0"/>
      </c:catAx>
      <c:valAx>
        <c:axId val="304617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2014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0809-6CBC-41C4-B87B-EA959104B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AA61-4B3B-46B9-B3A1-C725C007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7D3D-6E69-4AAD-A112-35A771DC3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99AC-DC19-4F34-9446-E7772F791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039E-7256-46B2-8A64-1F8F37C9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ED42-9B01-4BB7-BF45-CD2E8757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0318-C308-4B65-B4C0-39F6ECB4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6E36-9205-40D6-B286-95A08C69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90C8-774C-4502-A575-7A93C431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2CE2-ED39-4C14-83DC-D8E1095A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EA31-A45A-4F2C-85B9-B0D888B4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C2D3-FC4D-4BC5-822A-A7E6BEB2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262365-212F-443A-B96E-D507983426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