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66670"/>
        <c:axId val="12687213"/>
      </c:barChart>
      <c:catAx>
        <c:axId val="18466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7213"/>
        <c:crosses val="autoZero"/>
        <c:auto val="1"/>
        <c:lblAlgn val="ctr"/>
        <c:lblOffset val="100"/>
        <c:noMultiLvlLbl val="0"/>
      </c:catAx>
      <c:valAx>
        <c:axId val="12687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66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B76-435D-45CE-B34F-68A44046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5EE-D15A-496E-B676-11B6C6F0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E5D-92B0-4678-ABAB-B326EDFF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132-B77E-46FF-BFFF-BCC7412B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6A2-6A25-40A0-AEF0-7A213E9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953-6BC0-43B6-BA39-C971153B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DEF-093F-4B12-B041-4554F12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EF9-9AB2-4A45-A4D8-465C105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AB9-279C-451E-A3C5-B5CE5A3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DDE-28F2-4DB8-AD11-E5D61630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FED-3219-4737-9656-B7CE5C90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9AD-20CC-4B2C-9659-F7AF2DFB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26D5C-EF9B-4341-829D-F9AD0E1F2D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