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6949"/>
        <c:axId val="42176795"/>
      </c:barChart>
      <c:catAx>
        <c:axId val="1786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76795"/>
        <c:crosses val="autoZero"/>
        <c:auto val="1"/>
        <c:lblAlgn val="ctr"/>
        <c:lblOffset val="100"/>
        <c:noMultiLvlLbl val="0"/>
      </c:catAx>
      <c:valAx>
        <c:axId val="42176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852-66C2-46FC-8CF0-772DA94C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994-2669-456C-8F7D-AC69D322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281-BDFC-4598-A7FE-97636D14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142-7840-4ED6-9FE0-0515C809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692-0F3A-4B68-B7BA-E56DAFC2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4A1-7B9F-4FAC-A441-127639F9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95D-AF5D-4CC7-8479-57DB832B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FC9-5467-4A47-B41A-08B4A1A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F57-D54E-48E6-A71E-F9CBD3D7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900-8A05-4353-9E68-A55FECA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F95-461D-4C14-93F1-627E1C0B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1EC-EE98-46AB-857B-4CC65707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F84B7-FCF9-46A4-91C0-CFAC31A9D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