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97411"/>
        <c:axId val="84050752"/>
      </c:barChart>
      <c:catAx>
        <c:axId val="19097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50752"/>
        <c:crosses val="autoZero"/>
        <c:auto val="1"/>
        <c:lblAlgn val="ctr"/>
        <c:lblOffset val="100"/>
        <c:noMultiLvlLbl val="0"/>
      </c:catAx>
      <c:valAx>
        <c:axId val="84050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97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6E7-E479-4DD6-AB69-A6F0DA4C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98B-9FBC-460D-A343-A15635BF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F22-CC11-4641-8A83-29D6AEEB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ED7-FC83-4811-8002-E8C72B2D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E7C-B971-4081-883B-04419BEC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95D-38A9-4196-8F06-74C54AC0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573-B172-4726-9E11-78277107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7A6E-4EB9-425D-B32C-FA537F23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8B4-3E57-424D-949C-A3B55391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721-CAC1-4F43-BFB8-09B171FE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61F-BA72-4B87-893D-9F2A8EA4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BE3-76EE-4895-8287-BAC4738A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9E557-D537-47EF-B643-080E6FB739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