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69851"/>
        <c:axId val="24593475"/>
      </c:barChart>
      <c:catAx>
        <c:axId val="10069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93475"/>
        <c:crosses val="autoZero"/>
        <c:auto val="1"/>
        <c:lblAlgn val="ctr"/>
        <c:lblOffset val="100"/>
        <c:noMultiLvlLbl val="0"/>
      </c:catAx>
      <c:valAx>
        <c:axId val="24593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69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DB1-0735-42DD-AD5E-694E8E40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E9B-3CD6-4789-8A7D-D1C6E113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C66-4EB5-4666-9805-E9F029BB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180-AFF3-4221-BE22-33097E35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259-5191-4095-8879-9A3BFA8D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255-8D98-42E0-A96A-8FFCF0CC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C95-5199-4475-912E-310F0573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E93-4DCA-4E7A-B274-39C02C41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249-9B73-40C2-98CB-D4384F3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5F1-6E55-452D-85DA-A5CF290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A31-0F68-46EB-BD60-D198A09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9E1-27DF-4BE1-A735-D76F0A8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039CE-5A27-4D48-8AE9-564AFD6B03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