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396044"/>
        <c:axId val="82846808"/>
      </c:barChart>
      <c:catAx>
        <c:axId val="393960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846808"/>
        <c:crosses val="autoZero"/>
        <c:auto val="1"/>
        <c:lblAlgn val="ctr"/>
        <c:lblOffset val="100"/>
        <c:noMultiLvlLbl val="0"/>
      </c:catAx>
      <c:valAx>
        <c:axId val="828468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3960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ABC1-BE58-4EBF-AA91-EE720D66C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BA73-D8A6-481D-A5B4-8276CC123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08F1-6F0F-4631-A5EA-520AF525B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48A4-7C6F-4557-B9C8-E188906F8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1926-64CC-44A5-8D53-0C66C4538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E692-14B1-4FDD-8A4C-9A76539A3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2218-FAF9-4372-A821-23EAF52C2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87A2-A482-4846-9A34-893A4174E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8962-8C7A-4929-BB86-427C8264A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4DA9-E18A-4212-9334-DF024FD9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9EDA-792F-41B5-8851-8E4B9896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1EB1-2CC9-4354-A925-32EA8ECF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B4B616-602E-4CC2-86D6-F0EDDF4BE22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