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064731"/>
        <c:axId val="59907815"/>
      </c:barChart>
      <c:catAx>
        <c:axId val="66064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7815"/>
        <c:crosses val="autoZero"/>
        <c:auto val="1"/>
        <c:lblAlgn val="ctr"/>
        <c:lblOffset val="100"/>
        <c:noMultiLvlLbl val="0"/>
      </c:catAx>
      <c:valAx>
        <c:axId val="59907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64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CFDA-643F-4018-A507-75586ACF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204-126F-44E2-8F8A-535DE355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E11-5DB2-4AB5-AF2F-60DF8A89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CEE-CEC2-4FF1-A568-891336CE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99EC-2501-4C76-9D25-7240808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DE2-7A71-4FFA-8720-BE09890F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0129-146C-4872-923C-C11875D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966-E8B2-4937-B2DD-7F173E28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E60-EDF0-40A0-B982-CEA784C6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D32-AC5C-4DD8-AD18-958F8E4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0BD-BDBC-485F-84F4-1C17AD2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5736-1302-4ABE-A555-41BE57F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860BB-A44E-4EA5-A3B1-78F51D22B7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