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15104"/>
        <c:axId val="74255118"/>
      </c:barChart>
      <c:catAx>
        <c:axId val="72315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5118"/>
        <c:crosses val="autoZero"/>
        <c:auto val="1"/>
        <c:lblAlgn val="ctr"/>
        <c:lblOffset val="100"/>
        <c:noMultiLvlLbl val="0"/>
      </c:catAx>
      <c:valAx>
        <c:axId val="74255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15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AF1-2E73-4776-917A-CF34859C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360-A6FE-46F4-92C6-C78FE8EC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603-8443-4CD9-9D46-53159ECC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261-00F1-4526-B3FA-19A0B1BC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CC9-D5FE-44A8-BC3C-8AAE8AFD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C1E-E656-4597-9CFD-3B8D9C96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F63-97FC-4019-8881-0AA2A2FE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984-4DA1-450D-88F6-10655F0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E0C-EBED-4071-91F8-A4FAB5BA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BF0-69EB-4181-9AF5-FE1036A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450-15A1-4605-A9D5-4DA6653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B78-6F12-4AED-878B-6893BD2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59E80-753C-4B1E-AFE8-3C91E02E1A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