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48495"/>
        <c:axId val="40956378"/>
      </c:barChart>
      <c:catAx>
        <c:axId val="15248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56378"/>
        <c:crosses val="autoZero"/>
        <c:auto val="1"/>
        <c:lblAlgn val="ctr"/>
        <c:lblOffset val="100"/>
        <c:noMultiLvlLbl val="0"/>
      </c:catAx>
      <c:valAx>
        <c:axId val="40956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48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0D0-6921-4A31-9EF5-90C37126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29E-7C1D-4BC4-B46B-75FEF670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962-F848-430B-BC74-0B71FBA7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581-DAD8-480D-9FFA-F8907B92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DC0-D905-4DF4-BF8A-4001E1F0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5CA-83D3-4BBA-913A-3E596B0E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6F4-BAA9-440B-AFB1-B8A1073F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1FF-DFD0-4ECC-8AB6-7922C6C1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504-2C29-4D3D-8EBA-D3C8C683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995-806B-488D-9472-8685A3B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D1B-897A-404D-B8D3-7681BE7A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69C-F733-4777-89BE-F19F3687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FD579-2B0F-459B-8688-91B591F01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