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14011"/>
        <c:axId val="20312861"/>
      </c:barChart>
      <c:catAx>
        <c:axId val="91714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12861"/>
        <c:crosses val="autoZero"/>
        <c:auto val="1"/>
        <c:lblAlgn val="ctr"/>
        <c:lblOffset val="100"/>
        <c:noMultiLvlLbl val="0"/>
      </c:catAx>
      <c:valAx>
        <c:axId val="203128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14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39DE-A58C-4BBA-9B6F-A282533B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56F-A9AF-474E-884E-C3B9BA61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5B1-1D5F-4B0D-85DF-ADEAEA03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C75-2F16-4EE2-B780-B531CF8C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255-D465-403F-A707-5160685D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3F5-89DF-4E29-92D0-85BC7585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D9EC-F5E2-4A24-80A0-8DE10C27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B1A6-78E6-4723-8538-BF3B6BC4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88D0-4332-42DE-9C45-CAA8985F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1B77-F7A1-4737-9C21-9C3E36DE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04D-93B3-42A1-8E91-BA932729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08E-60D3-44D9-A8F1-8121FF5D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FEA8A-2236-4ADA-A6ED-7844ED878A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