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98202"/>
        <c:axId val="82747224"/>
      </c:barChart>
      <c:catAx>
        <c:axId val="92498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47224"/>
        <c:crosses val="autoZero"/>
        <c:auto val="1"/>
        <c:lblAlgn val="ctr"/>
        <c:lblOffset val="100"/>
        <c:noMultiLvlLbl val="0"/>
      </c:catAx>
      <c:valAx>
        <c:axId val="82747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98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96C8-1EFE-4175-951D-ABAB15A7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97E7-9C11-4CC5-9278-9F84387C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FAE6-B246-4356-98F2-0F448D76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37B-3CB5-446A-8D2B-DC453FE2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D56-45B6-4DFC-B39F-EA48FF23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9C4C-6B12-4BBF-8233-5F61750D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1E2-4223-4FF2-B709-64F77A0A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7A84-139A-4CA4-A9A5-1EC45451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A2F-DAD7-440A-9363-A4EBDF82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ACC8-AA95-4653-BA83-82C49A0B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290-626F-467F-9EB2-D1FF52E7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EC1-BF8F-4DA1-BB0F-12AE405C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64999-CCC6-4119-A57A-E1199E8966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