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7191"/>
        <c:axId val="61688774"/>
      </c:barChart>
      <c:catAx>
        <c:axId val="4697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8774"/>
        <c:crosses val="autoZero"/>
        <c:auto val="1"/>
        <c:lblAlgn val="ctr"/>
        <c:lblOffset val="100"/>
        <c:noMultiLvlLbl val="0"/>
      </c:catAx>
      <c:valAx>
        <c:axId val="61688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8F2-4E64-4C69-9D26-AC12D4B8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D58-34B4-4E7E-B5CC-9746081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87C-63B4-47B0-8004-533F812D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5B2-2858-42E4-A3EF-CCC60600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688-A528-4CC7-83EB-1009A4B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03F-F853-4CB7-A5DE-A90B4341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12E-5175-453E-8EAE-EBDD9EB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351-BB38-4F45-A3EF-D3EAA63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670-69AD-4B1A-9C93-D8125A8E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C08-639F-41AF-8B39-8A6D2F8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A60-882E-4240-8400-A232320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861-6178-4893-8FE7-4496524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70F49-67F9-48E1-87F3-7498F41FD1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