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767596"/>
        <c:axId val="31415286"/>
      </c:barChart>
      <c:catAx>
        <c:axId val="987675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415286"/>
        <c:crosses val="autoZero"/>
        <c:auto val="1"/>
        <c:lblAlgn val="ctr"/>
        <c:lblOffset val="100"/>
        <c:noMultiLvlLbl val="0"/>
      </c:catAx>
      <c:valAx>
        <c:axId val="314152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7675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893C-2880-4311-80DC-2AEA04047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282B-EEA1-4139-BA64-1B958C39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B959-BBAD-4F8D-ACAE-AB145C8F8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52CA-FFCD-4A80-83B7-95ADAD4B4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4444-72DA-4E8D-9F60-9114157F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DC54-52C3-4B5E-9DC9-94A88B59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D0E1-EF16-47FE-9B32-C6D9189E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1662-E4FA-4D34-858C-8410B73C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E38A-2B66-4167-8A7C-CD769945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32EA-AFD2-4964-B83E-B96ACDBF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AD07-267C-47F0-8342-4A22B214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415E-4E09-4C7F-9C93-EE3B5ACE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5F5D5-CDDB-4285-8919-DE351EBFC8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