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8780"/>
        <c:axId val="87026818"/>
      </c:barChart>
      <c:catAx>
        <c:axId val="98588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6818"/>
        <c:crosses val="autoZero"/>
        <c:auto val="1"/>
        <c:lblAlgn val="ctr"/>
        <c:lblOffset val="100"/>
        <c:noMultiLvlLbl val="0"/>
      </c:catAx>
      <c:valAx>
        <c:axId val="8702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8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BC5-146A-4E92-9F90-4162BA9D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4C6-C801-41EB-99D8-97F5274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0B6-BB13-4093-97F0-DBBB6AC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9BC-6417-4831-8394-D433DECB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A4B-3B89-4B72-9791-7B3A124B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28A-2C3C-4E02-B036-11C84071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C08-89FF-4EC9-8C8B-A9B999E7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835-A659-4D2F-BEDC-CB26C1A9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F83-2EC4-46BF-A6F0-CD3782A9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208-638C-42C8-A631-DBEF8CD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CDE-4E42-4079-B652-3D3F7A6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362-9D41-4A09-8CC3-DB30DD4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E51DF-E192-4DCD-96E3-3DDC8C5D47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