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03933"/>
        <c:axId val="86456149"/>
      </c:barChart>
      <c:catAx>
        <c:axId val="49303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56149"/>
        <c:crosses val="autoZero"/>
        <c:auto val="1"/>
        <c:lblAlgn val="ctr"/>
        <c:lblOffset val="100"/>
        <c:noMultiLvlLbl val="0"/>
      </c:catAx>
      <c:valAx>
        <c:axId val="86456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03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08B-40C9-40DA-9826-31A7A18C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B67-5B45-49EF-9076-C4E88BD8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23F-284D-4F04-B5B6-CE49FFFD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2B1-F0D5-4F72-B096-9BDD5438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F74-FACC-4D95-A080-FC1D119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1A4-B416-4B43-BAD0-FA00A890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DD5-9DDF-4130-A16F-1604908E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994-0A49-4379-9756-BCD440EC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561-FBEB-4A79-B3B6-C595C674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A93-546C-4F6E-8922-2855F13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643-7573-4494-A1EB-9E267B27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7FF-566E-45CC-911E-A56B048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2B13C-AE69-49D9-985A-8DA4B8B02C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