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776984"/>
        <c:axId val="37142133"/>
      </c:barChart>
      <c:catAx>
        <c:axId val="387769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142133"/>
        <c:crosses val="autoZero"/>
        <c:auto val="1"/>
        <c:lblAlgn val="ctr"/>
        <c:lblOffset val="100"/>
        <c:noMultiLvlLbl val="0"/>
      </c:catAx>
      <c:valAx>
        <c:axId val="371421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7769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E62B-7B25-445E-9514-D7D83AC47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7E5A-AD06-4951-904C-7220C54B1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58E0-845B-43FF-B5D0-6A59BC22A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9116-BD5D-4EA2-81E3-E03AD50D4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D60A-9758-4E55-83AE-517C8197D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70FA-5565-47B9-AF52-727AFC8D5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2E36-1148-44E7-AD9C-13398598C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1467-B072-42DE-93FD-E4CB99E99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6FEF-58F3-4239-8C27-9B92D931A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202B-B0CC-415B-B752-D87B35FDB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7592-8EA8-4413-8C0F-E730467F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D0A3-E104-433D-92DA-56F4CD535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7F4676-3084-4D6F-A41F-C22F3879431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