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07829"/>
        <c:axId val="85483331"/>
      </c:barChart>
      <c:catAx>
        <c:axId val="44107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83331"/>
        <c:crosses val="autoZero"/>
        <c:auto val="1"/>
        <c:lblAlgn val="ctr"/>
        <c:lblOffset val="100"/>
        <c:noMultiLvlLbl val="0"/>
      </c:catAx>
      <c:valAx>
        <c:axId val="85483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07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B39E-FDD8-4D1D-BC46-F58395DA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2A0-4748-4724-82E5-6C8F4DD0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084-1004-4F8B-A9D4-24F454E0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2D8-72C9-4548-BC51-63E036B4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012-0003-4F73-835D-BBBCEA8E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2CF-84AD-4810-AE15-8CAD1A42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2D8-022F-4EB6-AA8F-E7CB3533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B2F-FF79-48E3-8F35-F020D630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A1A7-E675-4C74-9F03-B8297DC2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461-7EFC-4368-B591-6377B5CD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42F-B5E7-4522-AF75-B220FF78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FC6-CAED-42A8-B7F3-69D5AAD2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7F92F-1433-4FFA-A253-AF6598FEA5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